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24832"/>
        <c:axId val="80797438"/>
      </c:barChart>
      <c:catAx>
        <c:axId val="72524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97438"/>
        <c:crosses val="autoZero"/>
        <c:auto val="1"/>
        <c:lblAlgn val="ctr"/>
        <c:lblOffset val="100"/>
        <c:noMultiLvlLbl val="0"/>
      </c:catAx>
      <c:valAx>
        <c:axId val="80797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24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C2B-4F5D-4967-871C-5E23534F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137-8A83-4BFA-A60C-E9DFEC36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711-6AFB-4EF5-A344-D0FD3A49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5CE-37B7-4830-BAB2-EC62174C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F18-FE6C-42C4-980B-68E4F404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DE8-B565-4174-85A4-CDACAF60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F0F-3926-4C5F-9215-340FED82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8BC-A2A6-4004-B43F-3DDC4997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8AD-FA5D-4685-B8FE-269DB8EC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548-05DC-4AE7-94EF-824C0F71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F1D-E4C7-45C5-8C35-10233926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95E-5C20-4A7D-8FF8-E0E7E869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9BD7B-8488-48C6-9B52-25E8B32E22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