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5806"/>
        <c:axId val="65083783"/>
      </c:barChart>
      <c:catAx>
        <c:axId val="3545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83783"/>
        <c:crosses val="autoZero"/>
        <c:auto val="1"/>
        <c:lblAlgn val="ctr"/>
        <c:lblOffset val="100"/>
        <c:noMultiLvlLbl val="0"/>
      </c:catAx>
      <c:valAx>
        <c:axId val="65083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F60-3853-418F-A387-7185D4BD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3EA-C9CE-46E8-A255-0DDA959F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3A6-79BA-4632-B242-D1C36968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1FA-142C-4A49-B6B5-E9BD023D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BC0-A5F4-470B-90CA-D62F5A9F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019-0912-42EF-9613-6FDF945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5FC-C8D8-4F16-BF7F-8AE22C01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DB9-E2F9-40BE-B7D2-5F167A4A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BD6-DFAE-43F8-9689-18EFB75F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099-5DFF-472C-8F2B-05D6CFB2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BFC-B9D7-4124-924D-B9DFA55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273-6772-4564-B697-F8B716E1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E5371-F7F3-4729-9A4F-44F650BD22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