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754193"/>
        <c:axId val="30221011"/>
      </c:barChart>
      <c:catAx>
        <c:axId val="217541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21011"/>
        <c:crosses val="autoZero"/>
        <c:auto val="1"/>
        <c:lblAlgn val="ctr"/>
        <c:lblOffset val="100"/>
        <c:noMultiLvlLbl val="0"/>
      </c:catAx>
      <c:valAx>
        <c:axId val="302210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7541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606F-768E-4A4B-9122-0A20D5245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F2DC-542B-4584-A120-A2953D7B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58B8-4D0C-4625-BDB8-FCAEFE94E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B865-DDCB-4C56-BAA1-72A47AB44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193E-813B-43E9-A19D-1B6BED7C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7973-060A-4F52-B486-3D254456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F80F-DD6C-44B0-AA03-76695E68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25ED-7918-4636-B8BB-DE0816D4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3755-C59D-48C5-8393-B7C40EC4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6F88-7AF0-40CB-B260-B9F02982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B1D1-5C54-4F70-9334-9C52AB45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F8C7-BED4-4E53-8427-BD4A032C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964F9-88C3-4F13-8ABB-A8F174D511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